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011-0FE7-4F2C-A689-E75A8A23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0D6-94E6-4BAA-9857-88285B99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FDC-211F-40E8-B6EE-C5FE9F2D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6EC-D3A1-443C-88DA-DC871113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750-6849-4D82-ABA6-E375F4B7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A20-C9CF-48A9-9B61-DE1722F8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725-3F74-4510-9048-A5A35173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4D0-B514-446A-9552-AA5B9FD7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2897-62EE-40B2-9A8A-84F29A9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BE7-FF45-446C-AF25-D7A055C3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2D0-EB2A-4BC8-95A5-423812F7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F9B-6540-4389-8362-6A6D7C9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F86-EB4C-4894-A59D-CD8DDBD8F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nager’s Buzz Word Bin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5800" y="1905120"/>
            <a:ext cx="7924680" cy="4114800"/>
            <a:chOff x="685800" y="1905120"/>
            <a:chExt cx="7924680" cy="4114800"/>
          </a:xfrm>
        </p:grpSpPr>
        <p:sp>
          <p:nvSpPr>
            <p:cNvPr id="45" name=""/>
            <p:cNvSpPr/>
            <p:nvPr/>
          </p:nvSpPr>
          <p:spPr>
            <a:xfrm>
              <a:off x="6904080" y="519768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49960" y="519768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iller A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794040" y="519768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nancial Eng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38280" y="519768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ower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519768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ought l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04080" y="4373640"/>
              <a:ext cx="1706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ystems 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49960" y="4373640"/>
              <a:ext cx="155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alanced Scorec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94040" y="4373640"/>
              <a:ext cx="1555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uman Capital Ass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8280" y="4373640"/>
              <a:ext cx="1355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rtual workp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4373640"/>
              <a:ext cx="175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m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904080" y="3551400"/>
              <a:ext cx="17064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trix 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49960" y="3551400"/>
              <a:ext cx="1554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l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94040" y="355140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ver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8280" y="3551400"/>
              <a:ext cx="13557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wnsiz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3551400"/>
              <a:ext cx="1752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enginee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04080" y="2727720"/>
              <a:ext cx="17064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 Competenc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49960" y="2727720"/>
              <a:ext cx="15541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ue 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94040" y="2727720"/>
              <a:ext cx="15559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2727720"/>
              <a:ext cx="13557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ey Results Are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" y="2727720"/>
              <a:ext cx="17524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 the end of the da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04080" y="1905120"/>
              <a:ext cx="1706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otional Intellig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49960" y="1905120"/>
              <a:ext cx="15541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ad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ot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4040" y="1905120"/>
              <a:ext cx="155592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I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38280" y="1905120"/>
              <a:ext cx="1355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si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1905120"/>
              <a:ext cx="17524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5800" y="19051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27277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" y="355140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5800" y="437364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519768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60199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9404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4996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4080" y="1905120"/>
              <a:ext cx="0" cy="411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10480" y="1905120"/>
              <a:ext cx="0" cy="4114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earning Buzz Word Bin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04920"/>
            <a:ext cx="8076960" cy="1522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-2666520" y="3352680"/>
            <a:ext cx="6248160" cy="1526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924680" cy="4114800"/>
        </p:xfrm>
        <a:graphic>
          <a:graphicData uri="http://schemas.openxmlformats.org/drawingml/2006/table">
            <a:tbl>
              <a:tblPr/>
              <a:tblGrid>
                <a:gridCol w="1752480"/>
                <a:gridCol w="1355760"/>
                <a:gridCol w="1555920"/>
                <a:gridCol w="1554120"/>
                <a:gridCol w="17064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ceptu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o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inforc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n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logical 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 Trans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lec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u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f-Ta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esth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06:16:06Z</dcterms:created>
  <dc:creator>dmungai</dc:creator>
  <dc:description/>
  <dc:language>en-US</dc:language>
  <cp:lastModifiedBy>jonesd</cp:lastModifiedBy>
  <dcterms:modified xsi:type="dcterms:W3CDTF">2002-07-19T14:57:16Z</dcterms:modified>
  <cp:revision>9</cp:revision>
  <dc:subject/>
  <dc:title>BUZZ WORD BINGO</dc:title>
</cp:coreProperties>
</file>